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6DA4-70D5-4ED5-823D-B3BDDF1D9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6449-C917-4A7A-BFE7-3DD4E8812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2DB4-85FB-4318-9DAE-2002A8CBDAA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F07-5E4C-466F-A608-3FE42FD5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B74-C595-4FD6-BA2F-7260AEF3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D34-B67E-473E-BA15-EEB7FE8D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208-B80B-411F-A378-78D936EA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82E-D4BC-49D8-AEF2-B2A814DC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D02-32FA-4D6D-868F-B8F9C3D4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335-D9F6-4ADE-9D17-5442AE8B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3F6-FFE0-4642-9348-E4F6D9C5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663-B10B-44A8-96CE-BF55F0D5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4642-362C-4AF6-A56B-0D3533FE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25D-AFBF-4684-879F-4C29ADDD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A8B-3DDB-4749-A6F2-6B71D128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1800-9A37-482A-9C91-9FAF0978F1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Lekovi 1. Hemija i dizajn lek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728D-02E9-40B1-85CD-0B5037FB40C8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685800" y="2514600"/>
            <a:ext cx="77724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НИ  МЕ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2050920" y="349200"/>
            <a:ext cx="5172120" cy="1495440"/>
          </a:xfrm>
          <a:prstGeom prst="rect">
            <a:avLst/>
          </a:prstGeom>
          <a:ln w="0">
            <a:noFill/>
          </a:ln>
        </p:spPr>
      </p:pic>
      <p:sp>
        <p:nvSpPr>
          <p:cNvPr id="5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06FF-431B-4C5F-BCA2-2C66EE2BF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3452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ник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мфотеран оксид. Соли са киселинама су настанилне за разлику од соли које даје са базама (само при топљењу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+ 4HCl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(MnCl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Mn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+ 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+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+ Ca(OH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aMnO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+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+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кисели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ису позна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ли њене соли јесу. Најпознатија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Доб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 редукцијом перманганата у базној среди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2F5C-103C-43A3-9D6B-8C1E968D3F03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вник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стабилан и кисео оксид док је киселина стабилна само у воденом раствору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в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ја со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као изразито јако оксидационо средство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9B10-3004-4D5C-BF78-DDCDD3198225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9451-0355-4FF2-94A5-30A83844F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2195640" y="333360"/>
            <a:ext cx="4572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B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8., 9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10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1562040" cy="376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"/>
          <p:cNvPicPr/>
          <p:nvPr/>
        </p:nvPicPr>
        <p:blipFill>
          <a:blip r:embed="rId2"/>
          <a:stretch/>
        </p:blipFill>
        <p:spPr>
          <a:xfrm>
            <a:off x="2700360" y="1628640"/>
            <a:ext cx="1276200" cy="1447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"/>
          <p:cNvPicPr/>
          <p:nvPr/>
        </p:nvPicPr>
        <p:blipFill>
          <a:blip r:embed="rId3"/>
          <a:stretch/>
        </p:blipFill>
        <p:spPr>
          <a:xfrm>
            <a:off x="4284720" y="1628640"/>
            <a:ext cx="3286080" cy="1333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"/>
          <p:cNvPicPr/>
          <p:nvPr/>
        </p:nvPicPr>
        <p:blipFill>
          <a:blip r:embed="rId4"/>
          <a:stretch/>
        </p:blipFill>
        <p:spPr>
          <a:xfrm>
            <a:off x="3276720" y="3429000"/>
            <a:ext cx="1923840" cy="219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18"/>
          <p:cNvSpPr/>
          <p:nvPr/>
        </p:nvSpPr>
        <p:spPr>
          <a:xfrm>
            <a:off x="2627280" y="33577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9" descr=""/>
          <p:cNvPicPr/>
          <p:nvPr/>
        </p:nvPicPr>
        <p:blipFill>
          <a:blip r:embed="rId5"/>
          <a:stretch/>
        </p:blipFill>
        <p:spPr>
          <a:xfrm>
            <a:off x="4932360" y="3716280"/>
            <a:ext cx="3013200" cy="230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4634-A11C-427A-B510-FCBAE2F9A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2195640" y="333360"/>
            <a:ext cx="4572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B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8., 9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10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8120" y="3851280"/>
          <a:ext cx="3533760" cy="517680"/>
        </p:xfrm>
        <a:graphic>
          <a:graphicData uri="http://schemas.openxmlformats.org/drawingml/2006/table">
            <a:tbl>
              <a:tblPr/>
              <a:tblGrid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048120" y="2022480"/>
          <a:ext cx="3533760" cy="517680"/>
        </p:xfrm>
        <a:graphic>
          <a:graphicData uri="http://schemas.openxmlformats.org/drawingml/2006/table">
            <a:tbl>
              <a:tblPr/>
              <a:tblGrid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048120" y="2631960"/>
          <a:ext cx="3533760" cy="517680"/>
        </p:xfrm>
        <a:graphic>
          <a:graphicData uri="http://schemas.openxmlformats.org/drawingml/2006/table">
            <a:tbl>
              <a:tblPr/>
              <a:tblGrid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048120" y="3241800"/>
          <a:ext cx="3533760" cy="517320"/>
        </p:xfrm>
        <a:graphic>
          <a:graphicData uri="http://schemas.openxmlformats.org/drawingml/2006/table">
            <a:tbl>
              <a:tblPr/>
              <a:tblGrid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590920" y="1413000"/>
          <a:ext cx="3962160" cy="517320"/>
        </p:xfrm>
        <a:graphic>
          <a:graphicData uri="http://schemas.openxmlformats.org/drawingml/2006/table">
            <a:tbl>
              <a:tblPr/>
              <a:tblGrid>
                <a:gridCol w="457200"/>
                <a:gridCol w="4762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590920" y="4460760"/>
          <a:ext cx="3962160" cy="517680"/>
        </p:xfrm>
        <a:graphic>
          <a:graphicData uri="http://schemas.openxmlformats.org/drawingml/2006/table">
            <a:tbl>
              <a:tblPr/>
              <a:tblGrid>
                <a:gridCol w="42840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590920" y="5070600"/>
          <a:ext cx="3962160" cy="517320"/>
        </p:xfrm>
        <a:graphic>
          <a:graphicData uri="http://schemas.openxmlformats.org/drawingml/2006/table">
            <a:tbl>
              <a:tblPr/>
              <a:tblGrid>
                <a:gridCol w="42840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276"/>
          <p:cNvSpPr/>
          <p:nvPr/>
        </p:nvSpPr>
        <p:spPr>
          <a:xfrm>
            <a:off x="2594160" y="20988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7"/>
          <p:cNvSpPr/>
          <p:nvPr/>
        </p:nvSpPr>
        <p:spPr>
          <a:xfrm>
            <a:off x="2593080" y="2708280"/>
            <a:ext cx="368280" cy="307080"/>
          </a:xfrm>
          <a:prstGeom prst="rect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8"/>
          <p:cNvSpPr/>
          <p:nvPr/>
        </p:nvSpPr>
        <p:spPr>
          <a:xfrm>
            <a:off x="2593800" y="3317760"/>
            <a:ext cx="398520" cy="307080"/>
          </a:xfrm>
          <a:prstGeom prst="rect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9"/>
          <p:cNvSpPr/>
          <p:nvPr/>
        </p:nvSpPr>
        <p:spPr>
          <a:xfrm>
            <a:off x="2593080" y="3927600"/>
            <a:ext cx="358920" cy="307080"/>
          </a:xfrm>
          <a:prstGeom prst="rect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6870-1FFB-4909-AE65-7848D2BD1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2195640" y="333360"/>
            <a:ext cx="4572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B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8., 9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10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4647960" cy="37144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8"/>
          <p:cNvSpPr/>
          <p:nvPr/>
        </p:nvSpPr>
        <p:spPr>
          <a:xfrm>
            <a:off x="3719160" y="1268280"/>
            <a:ext cx="225972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она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Fe, Co i 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ло важни метали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је посл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јраспрострањенији ме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е користи као чист метал (градјевинско гвождје). Подложан је корозији зато се често штити пресвачењем разним металима па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 више се користи као челик (легур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који лако кородира па му се додају разни метали (племенити челици) па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9F9A-3988-4B05-9FEF-17B2EFF8B9FC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важније руде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пири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S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хемати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магнети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смалтин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As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кобалтин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углавном прати руд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углавном прати руде других метала као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а стања +2, +3, +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билнија оксидациона стања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 з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лободно, з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лободн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у комплексимаа з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 комплексим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 з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лободно, з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 комплекс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15FD-CE93-4577-B56C-84686FF70ADC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+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ниц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O, Co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Ni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зни оксиди, лако реагују са киселинама да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оли као и хидроксиди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(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он је прилично јако редукционо средство, јер се лако оксидује, зато су соли нестабилне на ваздуху прелазечи у со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(III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(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(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 стабилне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лекс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(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(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 стабилни а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(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су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дроксиди су нерастворни у 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86F0-191D-4F70-8DCE-0C5626C52CED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+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ниц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мфотеран оксид са јако израженим базним особинама, стабилан као и хидроксид, док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зан и нестабилан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, као и хидроксид и практично једина позната проста једињењ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(I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хидроксид не постоје већ само нестабилни комплекси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ебно су стаблна комплексна једиње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(I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он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+4 је врло ретко јер је јако оксидационо стре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F325-C953-422F-9C75-584777E48CD1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лазни мет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ементи код којих се попуњавај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бит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ементи прве прелазне серије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c, Ti, V, Cr, Mn, Fe, Co, Ni, Cu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Z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ементи друге прелазне серије (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Y, Zr, Nb, Mo, Tc, Ru, Rh, Pd, Ag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ементи треће прелазне серије (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лантан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ементи четврте прелазне серије (5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н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2B44-6DBB-47EC-A1B8-05148AADBE67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6049-B412-424E-A2DF-4501BBB89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2195640" y="189000"/>
            <a:ext cx="4572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-1)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542880" cy="374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1276200" cy="146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3"/>
          <a:stretch/>
        </p:blipFill>
        <p:spPr>
          <a:xfrm>
            <a:off x="3492360" y="1557360"/>
            <a:ext cx="3333960" cy="1352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"/>
          <p:cNvPicPr/>
          <p:nvPr/>
        </p:nvPicPr>
        <p:blipFill>
          <a:blip r:embed="rId4"/>
          <a:stretch/>
        </p:blipFill>
        <p:spPr>
          <a:xfrm>
            <a:off x="1476360" y="3357720"/>
            <a:ext cx="1895400" cy="26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ло важан метал. Стабилан на ваздуху, користи се као заштитн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свлака за друге метале (хромирање) и за производњу нерђајућих (племенитих) чел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важнија руда је хроми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оловни хрома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b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ија се редукцијом хромита са кок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+ 4C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Fe +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+ 4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а стања до +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56F4-B50C-455E-8BF2-1596117A0CDF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табилно стање са врло израженим редукционим особинам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табилно стање са врло израженим редукционим особинам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билно оксидационо стањ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ник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мфотеран оксид, нерастворан у води, киселинама и базам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гује са базама само при топљењ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CE85-B905-45FE-8401-EA902FED6B9B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 се као стабилна зелена бо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је амфотеран ходроксид који лако реагује са киселинама а са базама само при топљењу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+ 3HCl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 Cr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+ 3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+ NaOH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 Na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+ 2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тоје многобројне со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(I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она који има изразиту склоност грађења комплексних једињењ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важнија со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(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хромне стипс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Cr(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М =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Користе се у кожарству и индустрији пап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6B7E-B556-4AD4-9F01-C5D3FF616848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билно оксидационо стање са јаким оксидационим особинам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ник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кисели оксид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и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+ KOH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 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+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→ 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+ 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важнија со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осл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јважније оксидационо с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в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C4E1-346B-44CE-9673-98086110D98B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ло важан метал. Стабилан на ваздуху, користи се за производњу нерђајућих (племенитих) чел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важнија руда је пиролузи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ија се редукцијом пиролузита кок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+ 2C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+ 2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а стања до +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5DA2-A972-411A-80E6-A3DF246D072E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26960"/>
            <a:ext cx="822960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табилно стање са врло израженим редукционим особинама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билно стање. Предстваник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азни оксид. Познате су многобројне со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(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он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табилно оксидационо стањ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 израженим оксидационим особинама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ник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азни оксид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3192-FDA6-4B0E-9CE3-677F132C5B69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8:10:10Z</dcterms:created>
  <dc:creator>Srecko</dc:creator>
  <dc:description/>
  <dc:language>en-US</dc:language>
  <cp:lastModifiedBy>Ratomir Jelic</cp:lastModifiedBy>
  <dcterms:modified xsi:type="dcterms:W3CDTF">2020-09-28T13:03:17Z</dcterms:modified>
  <cp:revision>26</cp:revision>
  <dc:subject/>
  <dc:title>PRELAZNI METALI</dc:title>
</cp:coreProperties>
</file>